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6CD75-7A5E-4AEC-AAB8-3027BBA14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3B72E-EA4B-421D-B24C-9AD702028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DD84C-A431-487C-8C31-A71847DEA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8847D-8477-4308-A288-58AAA34F6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C1342-E314-4EE3-A0A8-957C25910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86E41-2991-47B0-95E7-1FD8C0EFE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AF549-4897-40AF-A708-389B7AD1A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DA6F7-038D-479C-8B3D-569397BB9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E011C-B8FA-4855-85E3-11CC2B83C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A2CB3-6E69-44DB-B570-375E307BA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0D7A3-5ABF-4381-A696-725268DCE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E29F4-6D45-48F9-8934-A5A3F0E47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BDFBB-8B8F-4C74-92D7-07E279CA646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80640"/>
            <a:ext cx="7772400" cy="28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Некоторые аспекты отрицательного влияния автомобильных пробок в мегаполисе на здоровье и жизнь людей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Arial"/>
              </a:rPr>
              <a:t>Лушнов Михаил Степанови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Arial"/>
              </a:rPr>
              <a:t>Заместитель директора Медицинского информационно-аналитического цент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Динамика численности постоянно проживающего населения Санкт-Петербурга (на 01.01.2005 года)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539640" y="1916280"/>
          <a:ext cx="8064720" cy="41050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9640" y="1916280"/>
                    <a:ext cx="8064720" cy="41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Динамика основных показателей естественного движения по Санкт-Петербургу, Северо-Западному Федеральному округу и России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0" y="1484280"/>
          <a:ext cx="9144000" cy="53737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484280"/>
                    <a:ext cx="9144000" cy="537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Динамика заболеваемости болезнями органов дыхания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0" y="1484280"/>
          <a:ext cx="9144000" cy="53737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484280"/>
                    <a:ext cx="9144000" cy="537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95280" y="627120"/>
            <a:ext cx="7632720" cy="9302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0" y="1557360"/>
            <a:ext cx="9144000" cy="53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8280360" cy="11080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0" y="1052640"/>
            <a:ext cx="9144000" cy="58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7993080" cy="11127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0" y="1125360"/>
            <a:ext cx="9144000" cy="573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1T10:06:27Z</dcterms:created>
  <dc:creator>LushnovM</dc:creator>
  <dc:description/>
  <dc:language>en-US</dc:language>
  <cp:lastModifiedBy>masha</cp:lastModifiedBy>
  <dcterms:modified xsi:type="dcterms:W3CDTF">2006-12-21T10:25:42Z</dcterms:modified>
  <cp:revision>13</cp:revision>
  <dc:subject/>
  <dc:title>Некоторые аспекты отрицательного влияния автомобильных пробок в мегаполисе на здоровье и жизнь людей </dc:title>
</cp:coreProperties>
</file>