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49D-B24C-48B5-B3FC-38B82C70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563-C773-4A01-9C24-25B4C1E2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A9C-885E-4244-A9D4-6659869C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96E-536B-40E0-AE9F-0F62DD60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1FB-A53F-4030-8CC7-361DB21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7EE-B33F-4DB1-9144-B2830294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9A5-CE9C-4E9E-A59E-9F204EF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0DD-0858-4350-9AB6-AC8196DE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B0A-A14B-4C09-A130-1DB74AE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E58-2F35-488A-93CF-B0850CB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87E-5E0E-476B-A73D-FC6A4F2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E7F-492F-4F9C-A3DF-650BC8F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803-BDE7-4B1B-A49C-2A4C979B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Транспортные пробк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рынок недвижимост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ЫЙ ОПЫТ: «ЗЕЛЕНАЯ ВОЛ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618720"/>
            <a:ext cx="8209080" cy="12366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Росси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«зеленая волна»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ибо не отрегулиров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либо ориентируется на низкие скорости машин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114640"/>
            <a:ext cx="8209080" cy="855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тстояв на одном светофоре, водитель несколько следующих проезжает спокой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07920"/>
            <a:ext cx="8209080" cy="4748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се светофоры работают в едином режим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5661000"/>
            <a:ext cx="4679640" cy="855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Мы стоим на всех светофор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1484280"/>
            <a:ext cx="64908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5013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ЫЙ ОПЫТ: ЖЕСТКИЕ ПРАВИЛА ПАРК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005000"/>
            <a:ext cx="435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Очень высок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трафы за парковку в неположенном месте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9000"/>
            <a:ext cx="43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Очень дорог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арковка в отведенных для этого мест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916280"/>
            <a:ext cx="4249800" cy="3224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GOptCyrillic"/>
              </a:rPr>
              <a:t>РЕШЕНИЕ ПРОБЛЕМЫ: ВВОД МАГИСТРАЛЕЙ</a:t>
            </a:r>
            <a:r>
              <a:rPr b="1" lang="en-US" sz="3600" spc="-1" strike="noStrike">
                <a:solidFill>
                  <a:srgbClr val="000000"/>
                </a:solidFill>
                <a:latin typeface="AGOptCyrill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13200" y="2852640"/>
            <a:ext cx="433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4320" y="2810880"/>
            <a:ext cx="520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нутренняя дуговая магистра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720" y="5300640"/>
            <a:ext cx="63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веро-западная Скоростная магист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3240" y="4076640"/>
            <a:ext cx="54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Центральная дуговая магистрал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20" y="1699560"/>
            <a:ext cx="358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-ое полукольцо КА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ЗУЛЬТАТ ПРЕДПРИНЯТЫХ М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828360"/>
            <a:ext cx="3743280" cy="2226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мень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ич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рожных проб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20%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3468240"/>
            <a:ext cx="3889440" cy="2226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величе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обираемости налог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3 раз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765000"/>
            <a:ext cx="3816360" cy="2226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величе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тоимости недвижим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25%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79760"/>
            <a:ext cx="3814560" cy="2226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лояльности на выбора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2 раз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GOptCyrillic"/>
              </a:rPr>
              <a:t>ДОКЛАДЧИК</a:t>
            </a:r>
            <a:r>
              <a:rPr b="1" lang="en-US" sz="3600" spc="-1" strike="noStrike">
                <a:solidFill>
                  <a:srgbClr val="000000"/>
                </a:solidFill>
                <a:latin typeface="AGOptCyrill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13200" y="2852640"/>
            <a:ext cx="4330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197000"/>
            <a:ext cx="4464000" cy="40435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ский Игорь Анатол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ор по разви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ы Компаний «Бека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. (812) 324-31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@becar.spb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РО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125960" cy="443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979280" y="836640"/>
            <a:ext cx="5040360" cy="5040360"/>
          </a:xfrm>
          <a:prstGeom prst="line">
            <a:avLst/>
          </a:prstGeom>
          <a:ln w="254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907920"/>
            <a:ext cx="5113440" cy="4969080"/>
          </a:xfrm>
          <a:prstGeom prst="line">
            <a:avLst/>
          </a:prstGeom>
          <a:ln w="254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СТРОЙКА ЗАПАДНЫХ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68360" y="1052640"/>
            <a:ext cx="4956480" cy="4538520"/>
            <a:chOff x="2268360" y="1052640"/>
            <a:chExt cx="4956480" cy="4538520"/>
          </a:xfrm>
        </p:grpSpPr>
        <p:sp>
          <p:nvSpPr>
            <p:cNvPr id="51" name=""/>
            <p:cNvSpPr/>
            <p:nvPr/>
          </p:nvSpPr>
          <p:spPr>
            <a:xfrm>
              <a:off x="2268360" y="1052640"/>
              <a:ext cx="4539600" cy="4538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93680" y="1679040"/>
              <a:ext cx="3366720" cy="328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19720" y="2225160"/>
              <a:ext cx="2191680" cy="2190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69080" y="2774160"/>
              <a:ext cx="1096200" cy="1017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23840" y="2989080"/>
              <a:ext cx="187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сторический центр 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89280" y="1364040"/>
              <a:ext cx="966600" cy="179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7000" y="1375200"/>
              <a:ext cx="1887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мышлен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82760" y="2170080"/>
              <a:ext cx="181584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ловые, торговые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жилые зо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АСТРОЙКА РОССИЙСКИХ ГОРОДОВ-МИЛЛИО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97000"/>
            <a:ext cx="4175280" cy="417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1773360"/>
            <a:ext cx="3097080" cy="30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2276640"/>
            <a:ext cx="2016000" cy="20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2420640"/>
            <a:ext cx="259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тарые промышленны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2781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2923560"/>
            <a:ext cx="172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Исторический центр гор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1988280"/>
            <a:ext cx="25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пальные райо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1412280"/>
            <a:ext cx="2592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Новые промышленны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едприя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148428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16720" y="4019760"/>
            <a:ext cx="2376360" cy="2014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ившееся размещение промышленности не соответствует задачам развития городской инфрастру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8930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МЕЩЕНИЕ ЗОН ДЕЛОВОЙ АКТИВ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680" y="2937600"/>
            <a:ext cx="274392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24360" y="4881600"/>
            <a:ext cx="4968720" cy="17697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ыборгский райо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лизость набереж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лизость северных рай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ирокие возможности для редевелопмента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2852640"/>
            <a:ext cx="5040360" cy="17697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етроградский район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изость центра го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ступность к Васильевскому о-в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изость северных районов 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836640"/>
            <a:ext cx="5040360" cy="17697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осковский райо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лизость к Адмиралтейскому райо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ямая магистраль до аэропорта «Пулково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16360" y="2060640"/>
            <a:ext cx="934920" cy="1008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3213000"/>
            <a:ext cx="863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3357720"/>
            <a:ext cx="934920" cy="20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ЛИЯНИЕ ПРОБОК НА ЖИЛУЮ НЕДВИЖ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422100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пальных районах при выходе окон на оживленную магистраль стоимость жилья снижается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341360"/>
            <a:ext cx="42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робк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Загазованность воздух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ышенный шу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4000" y="4435560"/>
            <a:ext cx="3348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з-за пробок на Гороховой 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Б. Пороховской улицах не может быть элитного жиль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708280"/>
            <a:ext cx="1079640" cy="1224000"/>
          </a:xfrm>
          <a:prstGeom prst="downArrow">
            <a:avLst>
              <a:gd name="adj1" fmla="val 50000"/>
              <a:gd name="adj2" fmla="val 2834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25880" cy="3019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89000"/>
            <a:ext cx="828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РЕШЕНИЕ ПРОБЛЕМЫ: ВВОД АЛЬТЕРНАТИВНОГО ТРАН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3413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земный экспре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9120" y="2997360"/>
            <a:ext cx="3097080" cy="30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8920" y="3933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2560" y="40755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сторический центр г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03480" y="2997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055880" y="3388320"/>
            <a:ext cx="2113560" cy="217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8760" y="4581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77400" y="3411360"/>
            <a:ext cx="2110320" cy="214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60560" y="299736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86120" y="3489120"/>
            <a:ext cx="2162880" cy="219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8760" y="4437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947520" y="3464280"/>
            <a:ext cx="2080080" cy="221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1800" y="242028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мвайные пу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54040" y="2924280"/>
            <a:ext cx="165240" cy="4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39840" y="2924280"/>
            <a:ext cx="523800" cy="144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68200" y="2924280"/>
            <a:ext cx="73980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42028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аина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9120" y="2997360"/>
            <a:ext cx="144360" cy="718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343160"/>
            <a:ext cx="410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диальные ли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амв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76720" y="1916280"/>
          <a:ext cx="317664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16280"/>
                    <a:ext cx="3176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300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АПАДНЫЙ ОПЫТ: HOV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IGH OCCUPANCY VEHICLE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2864160"/>
            <a:ext cx="4572000" cy="22885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ющие взять попутчиков могу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титься в специальную справоч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0000"/>
              </a:buClr>
              <a:buFont typeface="Wingdings" charset="2"/>
              <a:buChar char=""/>
              <a:tabLst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одобрать» пассажиров на стоянках при въезде в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йний левый ряд могут занимать машины, в которых едут не менее двух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12400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ЫЙ ОПЫТ: ЗАПРЕТ НА ЛЕВЫЙ ПОВОРОТ В ЦЕНТРЕ ГОРОДА В ЧАС П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71400"/>
            <a:ext cx="4608360" cy="2379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добная система ограничений существует и в Москве, но часто распространяется не на весь транспорт, а только на грузово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916280"/>
            <a:ext cx="51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енно поворот налев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льно тормозит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7920"/>
            <a:ext cx="50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4:03:52Z</dcterms:created>
  <dc:creator>USER</dc:creator>
  <dc:description/>
  <dc:language>en-US</dc:language>
  <cp:lastModifiedBy>masha</cp:lastModifiedBy>
  <dcterms:modified xsi:type="dcterms:W3CDTF">2006-12-21T11:49:55Z</dcterms:modified>
  <cp:revision>197</cp:revision>
  <dc:subject/>
  <dc:title>Слайд 1</dc:title>
</cp:coreProperties>
</file>